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A79-0A8E-4B0E-974B-E9227D8D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76A-9AED-423E-9D5E-8DB46E23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C69-8D31-4391-A0A9-CB6BCF1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E9F-D1DB-4139-8732-A2A5A99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116-31A5-4DE6-A73F-29403701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70E-FF8F-4890-8A87-ABB33BBB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E12-22E4-497B-A2C6-6CF10CD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202-2D69-4495-AF83-67CE4A3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253-2792-433F-B9CE-24C58D3C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BAC-C08E-426F-8FCD-D41483F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0E2-7047-4B37-8B61-B5A6134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CEC-5E14-451E-B18A-A1D51B1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9BE4-15F7-4E3B-A146-C59DBA5CC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765000"/>
            <a:ext cx="784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.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understand techniques used in adverts to persuade aud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413000"/>
            <a:ext cx="201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 lo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 need for ‘Nike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’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300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shown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44500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gan (Is it run on air? Will you run on air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765000"/>
            <a:ext cx="31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k background highlights trainers/ logos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492280"/>
            <a:ext cx="2016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light suggests spaceshi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ist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40000" y="3284640"/>
            <a:ext cx="1295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35280" y="170028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35280" y="450828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56000" y="4220640"/>
            <a:ext cx="287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197000"/>
            <a:ext cx="718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99736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997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duct is enough to advertise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716360" y="292428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9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gan bold and capit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8000" y="407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10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29196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11:11Z</dcterms:created>
  <dc:creator>Jon Hall</dc:creator>
  <dc:description/>
  <dc:language>en-US</dc:language>
  <cp:lastModifiedBy>Sophie Williams</cp:lastModifiedBy>
  <dcterms:modified xsi:type="dcterms:W3CDTF">2007-01-24T15:52:00Z</dcterms:modified>
  <cp:revision>5</cp:revision>
  <dc:subject/>
  <dc:title>Slide 1</dc:title>
</cp:coreProperties>
</file>